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E85-3866-4BE1-83C9-FD5467A2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346-F4BA-4CBE-91DD-A85491D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DEA-68C7-4204-936D-B1D746FA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5BC-37E7-48E4-A613-F37B21CB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9D9-C494-4D82-88E2-8728CE7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75E-91C9-43BB-90C8-6DA41D2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3D9-8D91-4313-8C7F-55CC4DD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3E0-3A8A-4327-A580-1575A31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E09-C9F6-4101-8678-B7AA3AA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4C9-6790-4DFF-8492-2ADE3E9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2E7-E324-4548-9FCA-90C9171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022-1A87-4FAD-AAC9-0210349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185-1C03-44C7-9346-727E8916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’addition et la sou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22416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réponse d’une addition est </a:t>
            </a:r>
            <a:r>
              <a:rPr b="0" i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la somm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fr-CA" sz="1400" spc="-1" strike="noStrike">
                <a:solidFill>
                  <a:srgbClr val="000000"/>
                </a:solidFill>
                <a:latin typeface="Arial"/>
              </a:rPr>
              <a:t>(1)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ddition:     5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+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3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6960" y="2666880"/>
            <a:ext cx="22622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sou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soustraction est </a:t>
            </a:r>
            <a:r>
              <a:rPr b="0" i="1" lang="fr-CA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CA" sz="3600" spc="-1" strike="noStrike">
                <a:solidFill>
                  <a:srgbClr val="000000"/>
                </a:solidFill>
                <a:latin typeface="Comic Sans MS"/>
              </a:rPr>
              <a:t>différence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fr-CA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Soustr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1" lang="fr-CA" sz="1400" spc="-1" strike="noStrike">
                <a:solidFill>
                  <a:srgbClr val="000000"/>
                </a:solidFill>
                <a:latin typeface="Comic Sans MS"/>
              </a:rPr>
              <a:t>(2)(12)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3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-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1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1806840" cy="181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51055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7339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73392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33:10Z</dcterms:created>
  <dc:creator>nbdoe</dc:creator>
  <dc:description/>
  <dc:language>en-US</dc:language>
  <cp:lastModifiedBy>nbdoe</cp:lastModifiedBy>
  <dcterms:modified xsi:type="dcterms:W3CDTF">2008-09-22T00:49:01Z</dcterms:modified>
  <cp:revision>5</cp:revision>
  <dc:subject/>
  <dc:title>L’addition et la soustraction</dc:title>
</cp:coreProperties>
</file>